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0EB-5CF7-47FB-8BAD-159FBDCF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F9D-B3A3-472A-9B47-4D9001E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FB9-4486-439C-A777-B551B2AB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EC0-C8A7-4569-9B90-1AA16845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761-FEF0-40A8-86BC-97A8A6C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D4A-8697-4F59-A002-4BD53FF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13B-B262-4C77-A72D-9A733BE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0BC-242D-42E6-A6C8-22C62BD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97C-C1D3-4A06-8E89-801D960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3B0-21A1-431C-8A54-DB0BCE9C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C60-B7F0-4161-8902-E58BEB6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E3D-930F-461A-A7BE-FFAF8E2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DA9-3B72-478E-BAB8-316DD598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id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ila Dahd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sca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=def. for every t and every x, if 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instance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, then there is some instance y of Y at t such that (x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 =def. there is some z such that z is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 and z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8280" y="425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2520" y="478476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efinition in RO_proposed is spatial, not mer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628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65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38120" y="1371600"/>
            <a:ext cx="1295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0200" y="502920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B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040" y="55627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040" y="60958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4720" y="196524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verlaps, rath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inition, avoid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name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95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99072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3716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7847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portion of axon in 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te that it can be the case that X overlaps Y as thus defined, even though Y does not overlap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us uterine tracts overlaps urinogenital sysem but not uriongenital system OVERLAPS uterine tract (because of male urinogenital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ctually uterine tract is part_of urinogenital system, which raises the question of whether each of X's parts overlaps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verlaps at a fine grain may play a role in the definition of connected_to (keep in m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32:12Z</dcterms:created>
  <dc:creator>Peter E. Midford</dc:creator>
  <dc:description/>
  <dc:language>en-US</dc:language>
  <cp:lastModifiedBy>Peter E. Midford</cp:lastModifiedBy>
  <dcterms:modified xsi:type="dcterms:W3CDTF">2008-05-19T17:20:25Z</dcterms:modified>
  <cp:revision>11</cp:revision>
  <dc:subject/>
  <dc:title>PowerPoint Presentation</dc:title>
</cp:coreProperties>
</file>